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622A-0EEC-458D-9319-E55FE92BA88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9252-DBC2-401D-ADEA-2B5D1A91B47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AFBB-3251-4DC8-8B2F-3F7A4ABD9C7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003C-7639-4249-9408-3285DDCAB27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DA6F-FCE1-4E50-9370-9AE305E4CF3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2E9F-50CC-4292-9FD5-CAAFB76D64D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90FF-96AD-4A45-A95B-22123CE60C7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BD58-284E-4C81-ACE1-5BDDAF6E754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CA32-4CF1-4729-A217-6392FF6067F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6A6E-F1AF-4100-BCFC-DDA35B32161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7650-BDD7-4787-A3DD-945CBEB2A51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F511-0609-4915-9ED0-106B8E8CB25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2F86-A85A-4B9F-AECC-2B028F7A30F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514A-78F6-4D08-B469-05825AACC5A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981C5-B2B2-4F47-A959-12B6C5C41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0F64E-9CF1-4282-B4EC-C507014C68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4E5F2-6179-4010-82FE-CF7FE54B5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A5F8E-97E1-433D-9597-4E8C38A8AA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76234-303D-43BD-8E19-2F9812D577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E8444-243F-47AA-BAEE-F41DC5905B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A8A2F-9B83-41A6-B0EC-852BADB77A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C089C-52C2-4EF3-9C08-59B627FF60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60436-712D-483F-B879-A5CF02A2B4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E4AA6-3FA5-402D-AA3F-E0194C35F3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F2A5E-DE12-4D80-8599-8CC8C22411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B6AFF-839E-4F21-B993-28EF9479A3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41C7-BF94-4D42-A00C-B23F25BCE75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참고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은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008000"/>
                <a:gridCol w="3961080"/>
                <a:gridCol w="381636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표평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서면평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제출 불필요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연구관리시스템 발표자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업로드란에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빈 파일 업로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4-08T08:53:09Z</dcterms:modified>
  <cp:revision>98</cp:revision>
  <dc:subject/>
  <dc:title>2006년도 식품의약품안전청 공개발표 선정평가    ℹ 사 업 명 :   ℹ 과 제 명 :   ℹ 연 구 비 :   ℹ 신청기관 :   ℹ 주관연구책임자 :</dc:title>
</cp:coreProperties>
</file>